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120-F7EA-4AF3-A19A-B0E82E8A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216-5270-49EC-8341-A198F2D2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8FF-7693-4280-8FD9-ED294CFC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4D3-7F94-44DC-A109-5EA826DD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58A-5ABB-41EB-B28D-7ECF2EE6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192-42D5-4F97-8FC5-66579547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870-3DD2-4110-B449-C3BC3A09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018-8D04-48D8-A76B-C606A5D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3AA-81EB-4AD5-AA0A-EF38830D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DF9-82FA-49A5-9DD4-63733241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8C6-7254-49D9-A6F4-F270421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624-37C7-4C7D-841D-DCD9A45F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DD8A-D007-4D9E-9258-5D725C180D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庆礼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3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庆礼包里有很多各种各样的东西。有新家坡的小国旗，有食物给我们吃，还有一些用水贴在手或脸上的纹身。我们虽时都会把小国旗挥来挥去。里面还有灯棒，我们把电池装好了，就把它拿来玩。礼包里还有一个小帽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色彩兵分的烟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0666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庆庆典快结束了，突然，黑暗的夜空爆出了色彩兵分的烟花，弄得大家兴奋的大喊大叫，便慌忙地拍起照来。忽然，有人唱起了国歌，我们就跟着唱，国歌唱完后，爆出了最多的烟花。眼看烟花把整个天空点亮了，大家感到很开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1:33:42Z</dcterms:created>
  <dc:creator>Fujitsu</dc:creator>
  <dc:description/>
  <dc:language>en-US</dc:language>
  <cp:lastModifiedBy>Fujitsu</cp:lastModifiedBy>
  <dcterms:modified xsi:type="dcterms:W3CDTF">2011-07-26T11:42:11Z</dcterms:modified>
  <cp:revision>2</cp:revision>
  <dc:subject/>
  <dc:title>国庆礼包</dc:title>
</cp:coreProperties>
</file>